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457-A92F-4569-B5F7-989ECDD7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D4A-A313-405E-B2A5-1ACC49DD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700-EF55-4881-A8CD-FB5FEE8B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F91-089D-41B0-8720-57CA3A47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8B0-7A98-4FB3-923E-D86395A5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41D-B051-4487-B5D7-85CD3ECC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EE2-AA33-47E4-9B2F-5C9D0EDC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0C0-BF42-4B19-AFDD-6DB22B93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B91-04B9-44B5-9EAE-E995B03F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772-1CAC-4C3A-8335-AC58554C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6B6-0F93-46E3-9DBB-6E7488AC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9D9-3BFB-4B65-A1B4-20ABB992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062E-D75B-47A9-A4D7-240B95ED4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Pollution and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010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ndwater Conta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ied, leaking gasoline 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up very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lution not a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Water Intr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tewater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c tank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water Treatment Pla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your primary, secondary, advanced water treatments (see pg 481, remember field trip and pi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tewater renovation and Con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 Reg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Water Act of 1972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ed multiple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ed in 1987 to include stormwater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MPs used by gov agencies and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ed in 2000 to include non-point sour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Agents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ver modification / 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 harv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b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 sup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ic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d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ban Water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Point Source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Source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 Run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x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ticides, insecticides, herbic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borne Dis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cal Coliform Bacteria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ents and Eutroph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l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xon  Valdez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il tanker: Prince William Sound: Alaska : 1989 (10 million gall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water Horiz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il platform: Gulf of Mexico: 2010 Largest recorded marine oil spill in his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3,000 barrels a day for almost 3 months (total spilled = 4.9 million barrels (42 gallons per barrel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ti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oil tanker: Spanish Coast: 2002 (20 million gall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essic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il tanker: Equador : 2001: (100,000 gallons): threatened the Galapago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bout 50 others since 19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Mine Drain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47920"/>
            <a:ext cx="854064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ulfur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coal and metal m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ite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es surface and grou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old m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0:34:06Z</dcterms:created>
  <dc:creator>tosborne</dc:creator>
  <dc:description/>
  <dc:language>en-US</dc:language>
  <cp:lastModifiedBy>tosborne</cp:lastModifiedBy>
  <dcterms:modified xsi:type="dcterms:W3CDTF">2012-02-29T00:50:45Z</dcterms:modified>
  <cp:revision>7</cp:revision>
  <dc:subject/>
  <dc:title>Slide 1</dc:title>
</cp:coreProperties>
</file>